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A1D-6C63-4E96-BBC5-3EB067FE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230-7E8F-4476-A256-A3952C5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CB7-3CA0-4F52-B2C0-8C912FC3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E80-C0EC-46B2-A536-F22883FF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0A48-80CC-4804-9089-8F4AB44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E3D-355D-4D5D-BD76-30618138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0C8-D747-43D4-9AB9-2F7DFB08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02D-A3CC-4121-AEEB-0D70CF2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F16-88EA-444D-8FE4-55630E64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195-F1C6-4EA6-86A8-B8274618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187-475F-46E4-8557-39CC8D63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DA0-59A8-432D-9C2A-253D3AF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A78B-0CB4-4ED8-A3A8-9C3373CF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ebra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tanje trodimenzionalnih obje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red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tačka,tačka] - ravan kroz tri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rava,prava] - ravan određena dvema prav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prava] - prava određena tačkom i prav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poligon] - prava određena poligo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lane[tačka,ravan] – ravan paralelna datoj ravni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prava] – normalna ravan na datu pravu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pendicularPlane[tačka,vektor] – normalna ravan na dati vektor kroz dat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] – tetraedar čija je stranica određena datim tačk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poligon,visina] – prava piramida date visine čija je baza dati poli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yramid[tačka,tačka,tačka,...] – piramida određena datim temen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kružnica,visina] – pravi konus sa datiom kružnicom kao osnovom i datom visi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tačka,poluprečnik] – konus čiji je centar osnove prva uneta tačka a vrh druga uneta ta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e[tačka,vektor,ugao] – konus sa vrhom u datoj tački, sa visinom u pravcu datog vektora i nagibom izvodnice za dati uga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,tačka] – prizma čija je donja baza dati poligon a data tačka je teme gornje ba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poligon visina] – prava prizma date visine čija je baza dati poli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sm[tačka,tačka,...] – prizma čija su temena date tač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kružnica,visina] – pravi cilindar sa datom kružnicom kao osnovom i datom visin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ylinder[tačka,tačka,poluprečnik] – cilindar čije su osnove sa centrom u datim tačkama i sa datim poluprečnik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] – tetraedar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trahedron[tačka,tačka,pravac] - tetraedar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] – kocka čija je stranica određena datim tačkama u proizvoljn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ube[tačka,tačka,pravac] - kocka čija je stranica određena datim tačkama u datom pravc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[telo,broj] – razvija mrežu datog tela u n del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, preseci, refleks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[tačka,tačka] – sfera sa centrom u prvoj tački koja prolazi kroz drugu tač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here [tačka,poluprečnik] – sfera sa centrom u datoj tački i datim poluprečnik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sectpath [objekat, objekat] – linija kao presek dva uneta objek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flect [objekat,ravan] – simetrična slika datog objekta u odnosu na datu rav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ni klik na radno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vršini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cliping-postavljanje i uklanjanje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ping box size-veličina granične kut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z obzira da li je granična kutija posltavljena ili ne, objekti su prikazani samo unutar granične kut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 istom padajućem meniju moguće je postaviti (ukloniti) koordinatne ose, Oxy ravan, kao i koordinatnu mrežu u toj ravn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eđivanje radnog pros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gle Style Bar- otvara se klikom na strelicu ispod palete sa alatka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njemu je moguć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ati tip projekci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zno dimenzionirati graničnu kuti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iti pravac gled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ski rotirati sl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koordinatne o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avljati Oxyravan i mrežu unitar n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Stylingbar graphics3D axes plane.svg"/>
          <p:cNvPicPr/>
          <p:nvPr/>
        </p:nvPicPr>
        <p:blipFill>
          <a:blip r:embed="rId1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tylingbar graphics3D axes plane.svg"/>
          <p:cNvPicPr/>
          <p:nvPr/>
        </p:nvPicPr>
        <p:blipFill>
          <a:blip r:embed="rId2"/>
          <a:stretch/>
        </p:blipFill>
        <p:spPr>
          <a:xfrm>
            <a:off x="155520" y="460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kroz tri tačke –selektujemo tri tačke koje definišu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van (univerzalni alat)-selektuju se tri tačke, prava i tačka, dve prave ili polig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na ravan-selektuju se tačka i linija normalna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elna ravan-selektuju se tačka i ravan u odnosu na koju se konstruiše paralelna ravan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ode planethreepoint 32.gif"/>
          <p:cNvPicPr/>
          <p:nvPr/>
        </p:nvPicPr>
        <p:blipFill>
          <a:blip r:embed="rId1"/>
          <a:stretch/>
        </p:blipFill>
        <p:spPr>
          <a:xfrm>
            <a:off x="6588000" y="170028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ode plane.svg"/>
          <p:cNvPicPr/>
          <p:nvPr/>
        </p:nvPicPr>
        <p:blipFill>
          <a:blip r:embed="rId2"/>
          <a:stretch/>
        </p:blipFill>
        <p:spPr>
          <a:xfrm>
            <a:off x="665964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Mode orthogonalplane.svg"/>
          <p:cNvPicPr/>
          <p:nvPr/>
        </p:nvPicPr>
        <p:blipFill>
          <a:blip r:embed="rId3"/>
          <a:stretch/>
        </p:blipFill>
        <p:spPr>
          <a:xfrm>
            <a:off x="6516720" y="4653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ode parallelplane.svg"/>
          <p:cNvPicPr/>
          <p:nvPr/>
        </p:nvPicPr>
        <p:blipFill>
          <a:blip r:embed="rId4"/>
          <a:stretch/>
        </p:blipFill>
        <p:spPr>
          <a:xfrm>
            <a:off x="6659640" y="5877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tačkom na sf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era definisana centrom i poluprečnikom s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Mode sphere2.svg"/>
          <p:cNvPicPr/>
          <p:nvPr/>
        </p:nvPicPr>
        <p:blipFill>
          <a:blip r:embed="rId1"/>
          <a:stretch/>
        </p:blipFill>
        <p:spPr>
          <a:xfrm>
            <a:off x="6156360" y="2133720"/>
            <a:ext cx="646200" cy="64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ode spherepointradius.svg"/>
          <p:cNvPicPr/>
          <p:nvPr/>
        </p:nvPicPr>
        <p:blipFill>
          <a:blip r:embed="rId2"/>
          <a:stretch/>
        </p:blipFill>
        <p:spPr>
          <a:xfrm>
            <a:off x="6156360" y="3429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mida i ko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ramida definisana tačkom na vrhu i poligonom koji predstavlja b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us definisan centrom i poluprečnikom osnove i tačkom na vr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iramida ili kupa definisana pomoću baze i vi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Mode pyramid.svg"/>
          <p:cNvPicPr/>
          <p:nvPr/>
        </p:nvPicPr>
        <p:blipFill>
          <a:blip r:embed="rId1"/>
          <a:stretch/>
        </p:blipFill>
        <p:spPr>
          <a:xfrm>
            <a:off x="6300720" y="256536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Mode cone.svg"/>
          <p:cNvPicPr/>
          <p:nvPr/>
        </p:nvPicPr>
        <p:blipFill>
          <a:blip r:embed="rId2"/>
          <a:stretch/>
        </p:blipFill>
        <p:spPr>
          <a:xfrm>
            <a:off x="6300720" y="4005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Mode conify.svg"/>
          <p:cNvPicPr/>
          <p:nvPr/>
        </p:nvPicPr>
        <p:blipFill>
          <a:blip r:embed="rId3"/>
          <a:stretch/>
        </p:blipFill>
        <p:spPr>
          <a:xfrm>
            <a:off x="6300720" y="5445000"/>
            <a:ext cx="865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zma i cili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zma definisana donjom bazom (poligonom) i jednim temenom na gornjoj ba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indar definisan centrima osnova i poluprečnikom osn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a prizma ili cilindar definisan osnovom i visi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Mode cylinder.svg"/>
          <p:cNvPicPr/>
          <p:nvPr/>
        </p:nvPicPr>
        <p:blipFill>
          <a:blip r:embed="rId1"/>
          <a:stretch/>
        </p:blipFill>
        <p:spPr>
          <a:xfrm>
            <a:off x="6227640" y="4005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Mode prism.svg"/>
          <p:cNvPicPr/>
          <p:nvPr/>
        </p:nvPicPr>
        <p:blipFill>
          <a:blip r:embed="rId2"/>
          <a:stretch/>
        </p:blipFill>
        <p:spPr>
          <a:xfrm>
            <a:off x="6156360" y="2276640"/>
            <a:ext cx="863640" cy="86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ode extrusion.svg"/>
          <p:cNvPicPr/>
          <p:nvPr/>
        </p:nvPicPr>
        <p:blipFill>
          <a:blip r:embed="rId3"/>
          <a:stretch/>
        </p:blipFill>
        <p:spPr>
          <a:xfrm>
            <a:off x="6227640" y="5373720"/>
            <a:ext cx="841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raedar, kocka,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traedar definisan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cka definisana dvema tačkama i jednom ravni (fakultativn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eža prizme ili pi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ode net.svg"/>
          <p:cNvPicPr/>
          <p:nvPr/>
        </p:nvPicPr>
        <p:blipFill>
          <a:blip r:embed="rId1"/>
          <a:stretch/>
        </p:blipFill>
        <p:spPr>
          <a:xfrm>
            <a:off x="6156360" y="5084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Mode cube.svg"/>
          <p:cNvPicPr/>
          <p:nvPr/>
        </p:nvPicPr>
        <p:blipFill>
          <a:blip r:embed="rId2"/>
          <a:stretch/>
        </p:blipFill>
        <p:spPr>
          <a:xfrm>
            <a:off x="6084720" y="3500280"/>
            <a:ext cx="935280" cy="93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Mode tetrahedron.svg"/>
          <p:cNvPicPr/>
          <p:nvPr/>
        </p:nvPicPr>
        <p:blipFill>
          <a:blip r:embed="rId3"/>
          <a:stretch/>
        </p:blipFill>
        <p:spPr>
          <a:xfrm>
            <a:off x="6084720" y="213372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š neki korisni al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k dveju površi-kao rezultat dobija se kriva ili pr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etija u odnosi na rav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cija 3D prost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ena prespektive gled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Mode viewinfrontof.svg"/>
          <p:cNvPicPr/>
          <p:nvPr/>
        </p:nvPicPr>
        <p:blipFill>
          <a:blip r:embed="rId1"/>
          <a:stretch/>
        </p:blipFill>
        <p:spPr>
          <a:xfrm>
            <a:off x="5796000" y="5013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de rotateview.svg"/>
          <p:cNvPicPr/>
          <p:nvPr/>
        </p:nvPicPr>
        <p:blipFill>
          <a:blip r:embed="rId2"/>
          <a:stretch/>
        </p:blipFill>
        <p:spPr>
          <a:xfrm>
            <a:off x="6012000" y="38606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Mode mirroratplane.svg"/>
          <p:cNvPicPr/>
          <p:nvPr/>
        </p:nvPicPr>
        <p:blipFill>
          <a:blip r:embed="rId3"/>
          <a:stretch/>
        </p:blipFill>
        <p:spPr>
          <a:xfrm>
            <a:off x="6012000" y="2924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ode intersectioncurve.svg"/>
          <p:cNvPicPr/>
          <p:nvPr/>
        </p:nvPicPr>
        <p:blipFill>
          <a:blip r:embed="rId4"/>
          <a:stretch/>
        </p:blipFill>
        <p:spPr>
          <a:xfrm>
            <a:off x="5940360" y="206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3:14:27Z</dcterms:created>
  <dc:creator>Bogdan Pirkovic</dc:creator>
  <dc:description/>
  <dc:language>en-US</dc:language>
  <cp:lastModifiedBy>Bogdan Pirkovic</cp:lastModifiedBy>
  <dcterms:modified xsi:type="dcterms:W3CDTF">2014-12-04T15:28:58Z</dcterms:modified>
  <cp:revision>4</cp:revision>
  <dc:subject/>
  <dc:title>Geogebra 3D</dc:title>
</cp:coreProperties>
</file>